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18A-F8C0-4E49-8F09-AF86FC0D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2AC-C34F-4669-9D95-C88A5696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DF8-5193-4308-B247-CBF5A2FA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9CF-B4BC-4FF8-B941-78C613C0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6D8-C48D-4D14-9B5D-43F9161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E7A-51DB-4676-B44D-D37F9CB3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21E-D1F8-49C0-9F10-72F2B14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799-6850-4F39-9218-6B788E2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727-84A2-495A-83B8-22370A0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EDF-F11A-4B1D-801E-641DFF2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6EF-9333-4756-97B5-3CCD1412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85B-A0D1-439F-A83E-AF34E8B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6AC-6AB8-4A5D-9FF6-621E6BA2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2" descr=""/>
          <p:cNvPicPr/>
          <p:nvPr/>
        </p:nvPicPr>
        <p:blipFill>
          <a:blip r:embed="rId1"/>
          <a:srcRect l="0" t="56109" r="9369" b="4519"/>
          <a:stretch/>
        </p:blipFill>
        <p:spPr>
          <a:xfrm>
            <a:off x="914400" y="3809880"/>
            <a:ext cx="7699320" cy="229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228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85680" y="1054080"/>
            <a:ext cx="745668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telefonicz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utacja obwod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jemność i przydział zasobów sie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soby adresacji i sygnalizac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dy i zale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481-93C9-4453-950C-CE052BD72D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25884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K10" descr=""/>
          <p:cNvPicPr/>
          <p:nvPr/>
        </p:nvPicPr>
        <p:blipFill>
          <a:blip r:embed="rId1"/>
          <a:srcRect l="51028" t="28734" r="0" b="17421"/>
          <a:stretch/>
        </p:blipFill>
        <p:spPr>
          <a:xfrm>
            <a:off x="2595600" y="3200400"/>
            <a:ext cx="4327560" cy="351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3280" y="1066680"/>
            <a:ext cx="82944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z komutacją pakie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jemność i przydział zasobów sieci pakietowe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dzaje sieci pakietowy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soby adresacji i sygnaliz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65B-E849-4FB0-BFBB-C7954CD2A5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K10" descr=""/>
          <p:cNvPicPr/>
          <p:nvPr/>
        </p:nvPicPr>
        <p:blipFill>
          <a:blip r:embed="rId1"/>
          <a:srcRect l="51028" t="28734" r="0" b="2318"/>
          <a:stretch/>
        </p:blipFill>
        <p:spPr>
          <a:xfrm>
            <a:off x="4889520" y="1752480"/>
            <a:ext cx="402588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1349280"/>
            <a:ext cx="51055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z komutacją pakie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e są przesyłane w pakietach, które są przełączane pomiędzy węzłami sieci – każdy pakiet może przebywać różną drog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przypadku przeciążenia sieci część pakietów zagubiona wewnątrz sieci obsług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lejność obsługi pakietów zależy od ich prioryte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80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899-2380-4749-9AE8-0EAEBA0E98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609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582560"/>
            <a:ext cx="88390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ak działa sieć z komutacją pakie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dzaje sieci pakietowy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ieci WAN – X.25, Frame Relay, AT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ieci LAN – Ethernet, Token 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ieć IP najczęściej wykorzystuje w warstwie 2 sieci pakiet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762-3137-49CD-ADE7-BDCF452694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219320"/>
            <a:ext cx="93726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z komutacją pakie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res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żdy pakiet w sieci zawiera adres nadawcy i odbio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gnalizac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mowa dostępu do usługi przez sieć z powodu przeciąże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Żądanie dostępu do sieci przez abonen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jczęściej brak potwierdzenia zrealizowania usługi przez sieć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óźnienie w transmi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jczęściej nie jest stał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leży od bieżącego obciążenia sie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049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57F-1344-43D7-8FC0-0EC3E371BD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152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914400"/>
            <a:ext cx="822960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z komutacją pakietó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bra skalowalność i wykorzystanie zasobów sie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awiedliwy” podział zasobów sieci pod warunkiem zastosowania priorytetó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iejsza niezawodność transmisji – pakiety mogą zostać zagub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ienne i ciężkie do oszacowania opóźnien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dna standaryzacja między operatoram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iejsze bezpieczeństwo transmis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F35-5EF6-4985-ABD1-8E6F69911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3880" y="6890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679400"/>
            <a:ext cx="617220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Jak działa sieć VoIP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Elementy siec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posób dział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Sygnalizacja i protokoły komunikacyj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Współpraca z siecią PST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8F5-9E2F-413C-90E2-AD76FB4844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15" descr=""/>
          <p:cNvPicPr/>
          <p:nvPr/>
        </p:nvPicPr>
        <p:blipFill>
          <a:blip r:embed="rId1"/>
          <a:srcRect l="5677" t="29331" r="2276" b="4617"/>
          <a:stretch/>
        </p:blipFill>
        <p:spPr>
          <a:xfrm>
            <a:off x="76320" y="1284120"/>
            <a:ext cx="8915400" cy="4735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7920" y="380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3886200"/>
            <a:ext cx="762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77320" y="1523880"/>
            <a:ext cx="761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16002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89640" y="3860640"/>
            <a:ext cx="533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D1C-63B4-4591-AFE2-5434540203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K16" descr=""/>
          <p:cNvPicPr/>
          <p:nvPr/>
        </p:nvPicPr>
        <p:blipFill>
          <a:blip r:embed="rId1"/>
          <a:srcRect l="0" t="17826" r="2779" b="3606"/>
          <a:stretch/>
        </p:blipFill>
        <p:spPr>
          <a:xfrm>
            <a:off x="533520" y="1434960"/>
            <a:ext cx="8153280" cy="4737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05120" y="1295280"/>
            <a:ext cx="39621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LEMENTY SIECI Vo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458-C376-407F-8915-5E3851DF2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380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219320"/>
            <a:ext cx="937260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y sieci Vo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dium – sieć pakietowa z protokołem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d jej wydajności zależy jakość usług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łączy WAN IP korzysta z sieci pakietowej drugiej warstwy np. Frame Relay – uwaga na CIR-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łączy LAN-IP korzysta najczęściej z Etherne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posób działania sieci pakietowej powoduje obawy o jakość transmisji – problem Q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A31-B8D5-43C7-921F-13690BD903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3808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219320"/>
            <a:ext cx="88390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y sieci VoIP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wiązanie problemu QoS w sieciach 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óźnienie zależy od obciążenia sieci – pakiety mogą docierać różną drogą lub zostać zgubione – rozwiązanie – sieć inteligentna rezerwująca zasoby i rozpoznająca pakiety z gło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source Reservation Protocol „RSVP” – RFC 16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ferential services – „Diffsery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ultilabel Protocol Switching – „MP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81E-D814-4B2E-82A2-3745ED0C25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K1" descr=""/>
          <p:cNvPicPr/>
          <p:nvPr/>
        </p:nvPicPr>
        <p:blipFill>
          <a:blip r:embed="rId1"/>
          <a:srcRect l="952" t="48911" r="3641" b="10232"/>
          <a:stretch/>
        </p:blipFill>
        <p:spPr>
          <a:xfrm>
            <a:off x="533520" y="3652920"/>
            <a:ext cx="8305560" cy="251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47920" y="380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295280"/>
            <a:ext cx="807732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telefonicz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nie abonamentów przez komutację obwod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żda rozmowa to zestawienie linii dzierżawionej 64kb/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 zakończeniu połączenia linia wraca do zasobów sie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151-5471-43B6-8175-6690E574C6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7621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1828800"/>
            <a:ext cx="58672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lementy sieci Vo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tokoł komunikacy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7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G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001-3EC6-47E3-9F06-0EA2C24F5C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066680"/>
            <a:ext cx="784872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y sieci Vo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rminale komunikacyj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lefony analogowe i ISDN podłącz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ośrednio do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z centralkę PBX podłączoną do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z sieć PSTN i numer postępowy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tralki PBX podłąc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ośrednio do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tę gatewaya IP w central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z sieć PSTN i numer postępowy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mputery PC z kartą dźwiękową i oprogramowan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3049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004-471F-4916-A7E3-C0B9CDB1BA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1190520"/>
            <a:ext cx="78483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y sieci Vo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ateway – bramka Vo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Łączy świat IP ze światem PS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yk z śiecią IP – port LAN lub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yk z śiecią telefoniczn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rty analogowe do obsługi telefonów FX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rty analogowe do obsługi F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rty cyfrowe BRI lub P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EA1-DF94-40C2-BCF8-1A15B08D0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3049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023840"/>
            <a:ext cx="82296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y sieci Vo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Gatekeepr – konwerter pomiędzy adresacją telefoniczną a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e być w formie oprogramowania na serwerze lub samodzielnego urządz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pracuje z systemem rejestrującym lub billingow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oże współpracować z innymi gatekeeperami np. u innych operato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małych instalacji można wykorzystać do tego celu gatewa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A42-BBEF-48F6-BA6C-BE88B020C5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1023840"/>
            <a:ext cx="822960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 to jest VoI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łpraca z siecią PST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lementem łączącym jest gateway Vo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ego wielkość musi być dostosowana do przewidywanego ruchu – przychodzącego i wchodząc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rzypadku sieci VoIP o zasięgu międzynarodowym bramki VoIP są zwykle dzierżawione od firm trzecich działających na lokalnym ryn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z lokalizację i warunki punktu operatorzy PSTN mogą wpływać na rozwój VoIP – prawo telekomunikacyj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D66-2429-4F69-9B2A-48A101D280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203480"/>
            <a:ext cx="82296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ługa konsumencka – karta prepa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e względu na problem „ostatniej mili” dostęp zwykle przez 0800 za pośrednictwem sieci TPSA – bariera kosztu po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ługa „second line” przez ISP zależy od rozwoju dostępu do Interne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ny około 50% taniej niż dla stawek telefonii tradycyjn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ługa biznesowa – typu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umery dostępowe 0800 lub dodatkowa li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04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OSTĘP DO USŁUGI Vo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466-9DA2-4287-B30D-04F8D8A636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K32" descr=""/>
          <p:cNvPicPr/>
          <p:nvPr/>
        </p:nvPicPr>
        <p:blipFill>
          <a:blip r:embed="rId1"/>
          <a:srcRect l="4813" t="24129" r="1297" b="2543"/>
          <a:stretch/>
        </p:blipFill>
        <p:spPr>
          <a:xfrm>
            <a:off x="343080" y="1461960"/>
            <a:ext cx="8697600" cy="481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1920" y="366840"/>
            <a:ext cx="83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ŻLIWOŚCI KORZYSTANIA Z VoIP W POLS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38F-C15A-4AA8-8BE7-9CA3E82C20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2" descr=""/>
          <p:cNvPicPr/>
          <p:nvPr/>
        </p:nvPicPr>
        <p:blipFill>
          <a:blip r:embed="rId1"/>
          <a:srcRect l="0" t="56109" r="9369" b="4519"/>
          <a:stretch/>
        </p:blipFill>
        <p:spPr>
          <a:xfrm>
            <a:off x="914400" y="3949560"/>
            <a:ext cx="7699320" cy="229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1054080"/>
            <a:ext cx="883908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ak działa sieć telefonicz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ieć jest dzielona pomiędzy użytkowników a jej pojemność jest ogranicz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dolnością central do przełączania obwodó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jestracją tego faktu w billing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zybkością sieci szkieletow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9CD-6CC0-48A0-AEB5-C6DECBCD4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3" descr=""/>
          <p:cNvPicPr/>
          <p:nvPr/>
        </p:nvPicPr>
        <p:blipFill>
          <a:blip r:embed="rId1"/>
          <a:srcRect l="6588" t="28882" r="4652" b="2410"/>
          <a:stretch/>
        </p:blipFill>
        <p:spPr>
          <a:xfrm>
            <a:off x="38160" y="1274760"/>
            <a:ext cx="8953560" cy="4898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E78-B39D-4F9F-BEDE-31C3C394F3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765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4520" y="1301760"/>
            <a:ext cx="88390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k działa sieć telefoniczn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le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ża niezawodność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zas zestawienia połącze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yzacja i zasięg działan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zpieczeństw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awiedliwy podział zasobów sie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d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alowalność i wykorzystanie zasobów – ce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5A1-CC7D-4C57-8EA4-D5330D6596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K5" descr=""/>
          <p:cNvPicPr/>
          <p:nvPr/>
        </p:nvPicPr>
        <p:blipFill>
          <a:blip r:embed="rId1"/>
          <a:srcRect l="6537" t="27014" r="1364" b="6658"/>
          <a:stretch/>
        </p:blipFill>
        <p:spPr>
          <a:xfrm>
            <a:off x="533520" y="1295280"/>
            <a:ext cx="8204040" cy="457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457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1F9-8C7E-4413-A661-594724D0E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K6" descr=""/>
          <p:cNvPicPr/>
          <p:nvPr/>
        </p:nvPicPr>
        <p:blipFill>
          <a:blip r:embed="rId1"/>
          <a:srcRect l="7492" t="28461" r="11116" b="4709"/>
          <a:stretch/>
        </p:blipFill>
        <p:spPr>
          <a:xfrm>
            <a:off x="488880" y="1219320"/>
            <a:ext cx="8651880" cy="513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304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564-42FB-4475-8E8F-B525AEEC5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K7" descr=""/>
          <p:cNvPicPr/>
          <p:nvPr/>
        </p:nvPicPr>
        <p:blipFill>
          <a:blip r:embed="rId1"/>
          <a:srcRect l="7104" t="31174" r="12004" b="2827"/>
          <a:stretch/>
        </p:blipFill>
        <p:spPr>
          <a:xfrm>
            <a:off x="279360" y="1219320"/>
            <a:ext cx="8483760" cy="5324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34960" y="3348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A1A-61D5-4EAD-B7C7-D293649264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K8" descr=""/>
          <p:cNvPicPr/>
          <p:nvPr/>
        </p:nvPicPr>
        <p:blipFill>
          <a:blip r:embed="rId1"/>
          <a:srcRect l="2297" t="31021" r="2297" b="14278"/>
          <a:stretch/>
        </p:blipFill>
        <p:spPr>
          <a:xfrm>
            <a:off x="365040" y="1600200"/>
            <a:ext cx="8550360" cy="3838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6520" y="487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STAWY TECHN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A07-F6FE-4621-9426-E7E62EDAF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2:09:26Z</dcterms:created>
  <dc:creator>Kwiatek</dc:creator>
  <dc:description/>
  <dc:language>en-US</dc:language>
  <cp:lastModifiedBy>KWIATEK</cp:lastModifiedBy>
  <dcterms:modified xsi:type="dcterms:W3CDTF">2001-03-07T20:22:07Z</dcterms:modified>
  <cp:revision>56</cp:revision>
  <dc:subject/>
  <dc:title>Bez tytułu slajdu</dc:title>
</cp:coreProperties>
</file>